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22E-3399-43FD-A5C6-CF66E57E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40F-7DA7-406F-9217-E53D220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134-8AB9-445D-91C1-60980BE3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D7C-D0BA-4B17-8AC7-57016549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7969-2188-4E30-90DD-E9B5F8F8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D58E-7820-4764-A01D-9472908D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F8F-F0E2-4DD6-8C9E-1525D4B2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D230-998E-4CAA-8046-0F7D703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5EB-A680-4B3D-8A1A-417A633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E9B1-F03A-4D80-808D-273F04DA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A38-52E4-4F35-A2EA-167B7DDB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5A9-293E-4B2C-A866-56242A8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1D94-D622-42E6-8B62-291BC98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476A-039E-4CC2-8415-6372A7A4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E095-C565-459D-938F-560B830A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3D8E-7A41-47BA-B862-F81D14A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094-9F03-46C7-A0A3-B8222A1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3B3D-256F-4111-88AC-CDFFDA5C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D82E-7C68-4950-8C72-7C085011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2785-56D2-4417-A22C-8873C39D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EB34-0B78-4ED7-8996-6D59C70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92D8-FF99-4B1D-ABF5-27580C2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A53-FEE5-483C-8FFA-B2732D1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8FFC-BC1B-43D9-AE77-00C839A9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3C0D-40BE-421B-8D66-E721858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E06A-6706-4BF3-A7B2-5078619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0A0C-8B88-4A06-A68D-9915C71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D0F5-7D4E-4CD9-8535-295606C7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620F-CDDC-428E-8903-DAE8AEF4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11EA-AD5F-490A-B9F8-BACD6D61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2614-AFB9-4647-9E0E-5FC7F371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CA5B-DB13-42A4-B1DE-61F96FA3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51EA-15E9-4D5B-9A59-D8AF5ED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B44-4877-41D2-99A0-4CD1A39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D2BA-7E68-48B1-89C6-2699DE0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2469-2FD1-40CF-BB86-70C34F8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0D7F-6624-438C-B980-94F2DDA5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15C49-9DE9-4597-A987-5B036F1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34F6-4C0E-444E-8D3B-F7F317A1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29B4-FCAB-48B1-8866-E548163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AE96-972E-4A15-92CE-AABC53AD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E9B3-70CF-473E-9920-D135648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474B-F5A5-49BD-9E55-56645836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1C02-0517-462F-A844-C6F78867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BD8-00D7-4F54-BFB8-547D385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2BE4-4481-45C3-85B1-E5B0BDE9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D592-2AA5-4F00-BF87-0492A244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91A65-ED91-4EEC-A926-B05434D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82BE-A046-480C-B072-5F74F06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02DD-F89C-4CFC-A6E6-00880A8F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0351-A7C3-4E5F-B025-DF74091E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C071-4970-46F0-B145-32DECD5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1353-6F93-424F-A690-E18EF25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C5CE-5703-4242-9623-5A7BFE9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4E72-DF6A-4E78-AD04-410463DA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A78-BFA4-4F37-AE73-75A9782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D3AF-FCF0-4DA1-A6DF-1B1D8561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2FDB-50E4-4786-AEA7-279F7151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4D41-9A11-43B0-B1DA-E2C305C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742C7-B7E2-48B9-97DC-F2726E2F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75C6-99D1-446F-8F39-1729D323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1429-ACB8-4CB0-8111-DB41AB0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BC60-838F-48AE-BCA5-12CADD7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7A0E-8220-46E1-A117-8D59063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35DD-D1D0-4AAE-B28C-6CCEF94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3A54-5D59-450B-9581-DD992C7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E7E-BB4A-4AC8-9D86-3E1244F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9ED8-4D8E-4B41-9F8E-A3E39E9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73AAC-3790-4E1B-9FAB-DE3B8AFF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2672-4926-4842-8951-0E845476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7D74-209E-4562-AB9A-BA7E0257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AF16-730F-4A61-B1C8-8D44CA4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FA61-3A24-4561-B164-807BC0E7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D927-33EB-4485-AC66-80FC6C76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25D7-F19C-40CB-8514-A3D7FB4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AAA6-506A-4DF2-8F2E-5D2E454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8D5E-42A8-4069-9D1A-BB0D92A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BD-E36B-42E2-8BBD-ABF1C2B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E91F-6890-41AF-85FA-C709422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FE45-4664-4E11-9A75-46D10B9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7240-559C-4BDE-8CB1-01E511A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48EE-98AB-44F0-8F3A-4122BD1A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ABE6-9A84-4572-B31C-FAB28BDB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AA5-756A-469A-A953-D75EA65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3DD4-C470-45B9-B445-99BAE5BA7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E26-45F9-4820-A420-A60E5D50F5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33D-296D-4EA1-810C-1BA31DF9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4E7-793F-4097-9E7C-5B0B2FE96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3BDD-84E4-4FFA-B6BE-5EAEFFB4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FA6-6FB9-4450-B4CD-68592A99093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1B33-F0ED-4AD5-BEB2-872DD3F865E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5175360" y="5479920"/>
            <a:ext cx="3060720" cy="7747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Phys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Lengt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306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609480" y="243828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_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____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4952880" y="25146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_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____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2"/>
          <p:cNvSpPr/>
          <p:nvPr/>
        </p:nvSpPr>
        <p:spPr>
          <a:xfrm>
            <a:off x="457200" y="838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the following convers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609480" y="190512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49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49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03 c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,030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4952880" y="1828800"/>
            <a:ext cx="358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5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9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.9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74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7.4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158 mm = </a:t>
            </a:r>
            <a:r>
              <a:rPr b="0" lang="en-US" sz="4400" spc="-1" strike="noStrike">
                <a:solidFill>
                  <a:srgbClr val="ffafd1"/>
                </a:solidFill>
                <a:latin typeface="Andy"/>
              </a:rPr>
              <a:t>15.8 </a:t>
            </a: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3716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X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5715000" y="59436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ndy"/>
              </a:rPr>
              <a:t>÷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7-05T20:29:47Z</dcterms:modified>
  <cp:revision>126</cp:revision>
  <dc:subject/>
  <dc:title>Slide 1</dc:title>
</cp:coreProperties>
</file>